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5.jpeg" ContentType="image/jpeg"/>
  <Override PartName="/ppt/media/image14.wmf" ContentType="image/x-wmf"/>
  <Override PartName="/ppt/media/image5.jpeg" ContentType="image/jpeg"/>
  <Override PartName="/ppt/media/image9.wmf" ContentType="image/x-wmf"/>
  <Override PartName="/ppt/media/image1.png" ContentType="image/png"/>
  <Override PartName="/ppt/media/image2.png" ContentType="image/png"/>
  <Override PartName="/ppt/media/image3.png" ContentType="image/png"/>
  <Override PartName="/ppt/media/image8.png" ContentType="image/png"/>
  <Override PartName="/ppt/media/image4.gif" ContentType="image/gif"/>
  <Override PartName="/ppt/media/image7.png" ContentType="image/png"/>
  <Override PartName="/ppt/media/image12.png" ContentType="image/png"/>
  <Override PartName="/ppt/media/image11.png" ContentType="image/png"/>
  <Override PartName="/ppt/media/image6.wmf" ContentType="image/x-wmf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EA750-E98D-4FB5-B36F-20F0AC1FE8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11/07  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Acids and Alkal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now that solutions can be sorted by whether they are: acid, alkali or neutr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 understand that an alkali reacts with an acid to cancel it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now that indicators show you how acidic or alkaline a solution 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11/07  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Acids and Alkal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now that solutions can be sorted by whether they are: acid, alkali or neutr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 understand that an alkali reacts with an acid to cancel it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now that indicators show you how acidic or alkaline a solution 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or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hange colour in acid or alkaline solu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indicators change to different colou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ors help you find out whether a solution is acidic or n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or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hange colour in acid or alkaline solu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indicators change to different colou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ors help you find out whether a solution is acidic or n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mu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mus is an indicator. It changes colour in acid and alkaline solu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mus is red in an ac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mus is blue in an alkal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mu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mus is an indicator. It changes colour in acid and alkaline solu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mus is red in an ac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mus is blue in an alkal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ersal Indicato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ersal indicator changes colour in acids and alkal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colour shows the strength of an acid or alkal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ersal Indicato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ersal indicator changes colour in acids and alkal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colour shows the strength of an acid or alkal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–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- 1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–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- 1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 of Neutralisatio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gestion: Our stomach car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ound hydrochloric ac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 much of this leads to indiges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cure indigestion, you can neutralise the excess acid with baking soda or specialised indigestion tabl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ect St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 stings are acid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an be neutralised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king soda (bicarbonate of soda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p stings are alkaline and can     be neutralised with vinega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 of Neutralisatio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gestion: Our stomach car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ound hydrochloric ac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 much of this leads to indiges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cure indigestion, you can neutralise the excess acid with baking soda or specialised indigestion tabl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ect St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 stings are acid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an be neutralised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king soda (bicarbonate of soda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p stings are alkaline and can     be neutralised with vinega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Application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Neutralis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y Waste: Liquid waste from factories is often acidic. If it reaches a river it will destroy and kill sea life of many forms. Neutralising the waste with slaked lime can prevent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il Treatment: When soils are too acidic (often as a result of acid rain) they can be treated with slaked lime, chalk or quicklime, all alkalis. Plants and crops grow best in neutral soi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Application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Neutralis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y Waste: Liquid waste from factories is often acidic. If it reaches a river it will destroy and kill sea life of many forms. Neutralising the waste with slaked lime can prevent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il Treatment: When soils are too acidic (often as a result of acid rain) they can be treated with slaked lime, chalk or quicklime, all alkalis. Plants and crops grow best in neutral soi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and alkal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s can be sorted by whether they are: acid, alkali or neutr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substance dissolves in water it makes a solu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and alkal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s can be sorted by whether they are: acid, alkali or neutr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substance dissolves in water it makes a solu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ox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some non-met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olve in w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ake an ac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have a sour tas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corros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ox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some non-met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olve in w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ake an ac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have a sour tas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corros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s react with metal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and carbonates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al + Acid             Salt +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esium +                     magnesium chloride + hydrochloric acid                              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 + Carbonate            Salt + Water + Carb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phuric acid +                         copper sulphate + water +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pper carbonate                                      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react with met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and carbonates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 + Acid             Salt +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sium +                     magnesium chloride + hydrochloric acid                              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 + Carbonate            Salt + Water + Carb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phuric acid +                         copper sulphate + water +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per carbonate                                      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mon juice contains citric acid, and vinegar contains ethanoic ac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strong acids are hydrochloric acid, sulphuric acid and nitric ac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weak acids are ethanoic acid, citric acid and carbonic ac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 are many acids present in our everyday li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mon juice contains citric acid, and vinegar contains ethanoic ac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strong acids are hydrochloric acid, sulphuric acid and nitric ac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weak acids are ethanoic acid, citric acid and carbonic ac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acids present in our everyday li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isa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and alkalis react with each other. The alkali cancels out the acid in the reaction. This is called neutralis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alt is ma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isa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and alkalis react with each other. The alkali cancels out the acid in the reaction. This is called neutralis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alt is ma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lt made depends on the acid and alkali us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lt contains the metal atom from the alkali, and part of the acid molecu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lts of sulphuric acid are known as sulphat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lts of hydrochloric acid are known as chlorid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lts of nitric acid are known as nitrat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lt made depends on the acid and alkali us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lt contains the metal atom from the alkali, and part of the acid molecu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lts of sulphuric acid are known as sulphat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lts of hydrochloric acid are known as chlorid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lts of nitric acid are known as nitrat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oxides of some metals dissolve in water they make an alkali solu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s react with acids and neutralise th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everyday substances are alkal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feel soap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corros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oxides of some metals dissolve in water they make an alkali solu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s react with acids and neutralise th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everyday substances are alkal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feel soap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corros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s are present in many cleaning substances in use in our hom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tchen cleaners are alkaline because they contain ammonia or sodium hydroxide, which attack gr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hydroxide and sodium hydroxide are strong alkal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st recognisable and common weak alkali is ammon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s are present in many cleaning substances in use in our hom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tchen cleaners are alkaline because they contain ammonia or sodium hydroxide, which attack gr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hydroxide and sodium hydroxide are strong alkal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st recognisable and common weak alkali is ammon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85CE-BB91-4802-885B-7DD6F8621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6878-E8A1-48BA-A03E-E806F314F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7192-FD7E-40E5-89F4-DD1AE0843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4A71-F0F4-464C-A1E3-3FD17FBFA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1F51-F5BE-4BD5-94EA-04D230C5D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281C-1FF9-44F4-B527-C8A826A3A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4CB0-FAEA-4720-AAB5-4F6ECB881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51B8-03D8-4988-9A36-7958CAB07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1D0C-D092-4A42-B666-F4347F092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13B6-EFDD-4C1E-8C29-FE767F16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E991-CAFC-424B-9509-23484346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D78F-78D6-4CE0-968A-40A15D9C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F0E74-68D5-400F-AEDA-81870DB320A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1/11/07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Acids and Alkal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Learning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 know that solutions can be sorted by whether they are: acid, alkali or neutr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  understand that an alkali reacts with an acid to cancel it o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 know that indicators show you how acidic or alkaline a solution 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cc33"/>
                </a:solidFill>
                <a:latin typeface="Arial"/>
              </a:rPr>
              <a:t>Indicators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5084280"/>
            <a:ext cx="946800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y change colour in acid or alkaline solu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ifferent indicators change to different colours.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indicato"/>
          <p:cNvPicPr/>
          <p:nvPr/>
        </p:nvPicPr>
        <p:blipFill>
          <a:blip r:embed="rId1"/>
          <a:stretch/>
        </p:blipFill>
        <p:spPr>
          <a:xfrm>
            <a:off x="468360" y="620640"/>
            <a:ext cx="4056120" cy="304164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4500720" y="1341360"/>
            <a:ext cx="2879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dicators help you find out whether a solution is acidic or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449680" y="620280"/>
            <a:ext cx="369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660066"/>
                </a:solidFill>
                <a:latin typeface="Arial"/>
              </a:rPr>
              <a:t>Litmus</a:t>
            </a:r>
            <a:br>
              <a:rPr sz="5400"/>
            </a:br>
            <a:r>
              <a:rPr b="1" lang="en-GB" sz="5400" spc="-1" strike="noStrike">
                <a:solidFill>
                  <a:srgbClr val="660066"/>
                </a:solidFill>
                <a:latin typeface="Arial"/>
              </a:rPr>
              <a:t>Te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1280" y="354456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tmus is an indicator. It changes colour in acid and alkaline solu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tmus is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n an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acid.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tmus is </a:t>
            </a: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blu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n an </a:t>
            </a: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alkali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litmus"/>
          <p:cNvPicPr/>
          <p:nvPr/>
        </p:nvPicPr>
        <p:blipFill>
          <a:blip r:embed="rId1"/>
          <a:stretch/>
        </p:blipFill>
        <p:spPr>
          <a:xfrm>
            <a:off x="900000" y="260280"/>
            <a:ext cx="4375440" cy="36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9900"/>
                </a:solidFill>
                <a:latin typeface="Arial"/>
              </a:rPr>
              <a:t>Universal Indicato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Universal indicator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changes </a:t>
            </a: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colour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in acids and alkal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sci_dia_39"/>
          <p:cNvPicPr/>
          <p:nvPr/>
        </p:nvPicPr>
        <p:blipFill>
          <a:blip r:embed="rId1"/>
          <a:stretch/>
        </p:blipFill>
        <p:spPr>
          <a:xfrm>
            <a:off x="971640" y="2133720"/>
            <a:ext cx="7056360" cy="13683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7"/>
          <p:cNvSpPr/>
          <p:nvPr/>
        </p:nvSpPr>
        <p:spPr>
          <a:xfrm>
            <a:off x="-1230120" y="5300640"/>
            <a:ext cx="1036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marL="1828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ts colour shows the strength of an acid or alkal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2050920" y="357336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AC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5292720" y="357336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ALKAL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 rot="5400000">
            <a:off x="3423960" y="4214520"/>
            <a:ext cx="215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9900"/>
                </a:solidFill>
                <a:latin typeface="Arial"/>
              </a:rPr>
              <a:t>Neut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9900"/>
                </a:solidFill>
                <a:latin typeface="Arial"/>
              </a:rPr>
              <a:t>The pH sc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sci_dia_39"/>
          <p:cNvPicPr/>
          <p:nvPr/>
        </p:nvPicPr>
        <p:blipFill>
          <a:blip r:embed="rId1"/>
          <a:stretch/>
        </p:blipFill>
        <p:spPr>
          <a:xfrm>
            <a:off x="539640" y="1773360"/>
            <a:ext cx="7704360" cy="12571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7"/>
          <p:cNvSpPr/>
          <p:nvPr/>
        </p:nvSpPr>
        <p:spPr>
          <a:xfrm>
            <a:off x="1116000" y="2924280"/>
            <a:ext cx="3024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1 –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5867280" y="3068640"/>
            <a:ext cx="3888000" cy="17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8 - 1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Alkal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4211640" y="321300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4067280" y="4149720"/>
            <a:ext cx="57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3"/>
          <p:cNvSpPr/>
          <p:nvPr/>
        </p:nvSpPr>
        <p:spPr>
          <a:xfrm rot="5400000">
            <a:off x="3542760" y="3591000"/>
            <a:ext cx="168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4"/>
          <p:cNvSpPr/>
          <p:nvPr/>
        </p:nvSpPr>
        <p:spPr>
          <a:xfrm rot="5400000">
            <a:off x="3395880" y="4386960"/>
            <a:ext cx="206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9900"/>
                </a:solidFill>
                <a:latin typeface="Arial"/>
              </a:rPr>
              <a:t>Neut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5"/>
          <p:cNvSpPr/>
          <p:nvPr/>
        </p:nvSpPr>
        <p:spPr>
          <a:xfrm>
            <a:off x="1116000" y="3429000"/>
            <a:ext cx="151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Acid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9900"/>
                </a:solidFill>
                <a:latin typeface="Arial"/>
              </a:rPr>
              <a:t>Applications of Neutralisation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34999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Indigestion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: Our stomach car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round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hydrochloric acid.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o much of this leads to indiges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 cure indigestion, you can </a:t>
            </a:r>
            <a:r>
              <a:rPr b="1" lang="en-GB" sz="2800" spc="-1" strike="noStrike">
                <a:solidFill>
                  <a:srgbClr val="669900"/>
                </a:solidFill>
                <a:latin typeface="Arial"/>
              </a:rPr>
              <a:t>neutralis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excess acid with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baking soda or specialised indigestion table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MCj03645140000[1]"/>
          <p:cNvPicPr/>
          <p:nvPr/>
        </p:nvPicPr>
        <p:blipFill>
          <a:blip r:embed="rId1"/>
          <a:stretch/>
        </p:blipFill>
        <p:spPr>
          <a:xfrm>
            <a:off x="684360" y="1197000"/>
            <a:ext cx="1798560" cy="1800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MCj03122440000[1]"/>
          <p:cNvPicPr/>
          <p:nvPr/>
        </p:nvPicPr>
        <p:blipFill>
          <a:blip r:embed="rId2"/>
          <a:stretch/>
        </p:blipFill>
        <p:spPr>
          <a:xfrm>
            <a:off x="7202520" y="3500280"/>
            <a:ext cx="1941480" cy="21607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7"/>
          <p:cNvSpPr/>
          <p:nvPr/>
        </p:nvSpPr>
        <p:spPr>
          <a:xfrm>
            <a:off x="2484360" y="1052640"/>
            <a:ext cx="6480360" cy="30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Insect Sting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Bee sting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acidic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nd can be </a:t>
            </a:r>
            <a:r>
              <a:rPr b="1" lang="en-GB" sz="2800" spc="-1" strike="noStrike">
                <a:solidFill>
                  <a:srgbClr val="669900"/>
                </a:solidFill>
                <a:latin typeface="Arial"/>
              </a:rPr>
              <a:t>neutralised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wi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baking soda (bicarbonate of soda).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Wasp sting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alkalin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and can     be </a:t>
            </a:r>
            <a:r>
              <a:rPr b="1" lang="en-GB" sz="2800" spc="-1" strike="noStrike">
                <a:solidFill>
                  <a:srgbClr val="669900"/>
                </a:solidFill>
                <a:latin typeface="Arial"/>
              </a:rPr>
              <a:t>neutralised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inegar.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6" descr="MPj04071800000[1]"/>
          <p:cNvPicPr/>
          <p:nvPr/>
        </p:nvPicPr>
        <p:blipFill>
          <a:blip r:embed="rId1"/>
          <a:stretch/>
        </p:blipFill>
        <p:spPr>
          <a:xfrm>
            <a:off x="108000" y="-531720"/>
            <a:ext cx="9144000" cy="86947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42920" y="4723920"/>
            <a:ext cx="961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More Applications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of Neutralisation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00360" y="-531720"/>
            <a:ext cx="4771800" cy="376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Factory Wast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: Liquid waste from factories is often acidic. If it reaches a river it will destroy and kill sea life of many forms. Neutralising the waste with slaked lime can prevent th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0" y="0"/>
            <a:ext cx="4714920" cy="392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Soil Treatment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: When soils are too acidic (often as a result of acid rain) they can be treated with slaked lime, chalk or quicklime, all alkalis. Plants and crops grow best in neutral so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4400" spc="-1" strike="noStrike">
                <a:solidFill>
                  <a:srgbClr val="ff0066"/>
                </a:solidFill>
                <a:latin typeface="Arial"/>
              </a:rPr>
              <a:t>Acids and alkal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4360" y="42206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Solutions can be sorted by whether they are: </a:t>
            </a: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acid, </a:t>
            </a:r>
            <a:r>
              <a:rPr b="1" lang="en-GB" sz="3600" spc="-1" strike="noStrike">
                <a:solidFill>
                  <a:srgbClr val="660066"/>
                </a:solidFill>
                <a:latin typeface="Arial"/>
              </a:rPr>
              <a:t>alkali </a:t>
            </a:r>
            <a:r>
              <a:rPr b="1" lang="en-GB" sz="3600" spc="-1" strike="noStrike">
                <a:solidFill>
                  <a:srgbClr val="669900"/>
                </a:solidFill>
                <a:latin typeface="Arial"/>
              </a:rPr>
              <a:t>or neutral.</a:t>
            </a: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content"/>
          <p:cNvPicPr/>
          <p:nvPr/>
        </p:nvPicPr>
        <p:blipFill>
          <a:blip r:embed="rId1"/>
          <a:stretch/>
        </p:blipFill>
        <p:spPr>
          <a:xfrm>
            <a:off x="2484360" y="1916280"/>
            <a:ext cx="3816360" cy="2862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611280" y="981000"/>
            <a:ext cx="828036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hen a substance dissolves in water it makes a </a:t>
            </a:r>
            <a:r>
              <a:rPr b="1" lang="en-GB" sz="3200" spc="-1" strike="noStrike" u="sng">
                <a:solidFill>
                  <a:srgbClr val="ff0066"/>
                </a:solidFill>
                <a:uFillTx/>
                <a:latin typeface="Arial"/>
              </a:rPr>
              <a:t>solution.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611280" y="333000"/>
            <a:ext cx="4286160" cy="28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When the </a:t>
            </a:r>
            <a:r>
              <a:rPr b="1" lang="en-GB" sz="3200" spc="-1" strike="noStrike">
                <a:solidFill>
                  <a:srgbClr val="660066"/>
                </a:solidFill>
                <a:latin typeface="Arial"/>
              </a:rPr>
              <a:t>oxi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of some</a:t>
            </a:r>
            <a:r>
              <a:rPr b="1" lang="en-GB" sz="3200" spc="-1" strike="noStrike">
                <a:solidFill>
                  <a:srgbClr val="660066"/>
                </a:solidFill>
                <a:latin typeface="Arial"/>
              </a:rPr>
              <a:t> non-metals</a:t>
            </a: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dissolve in </a:t>
            </a: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water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they make an </a:t>
            </a: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acid.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acid"/>
          <p:cNvPicPr/>
          <p:nvPr/>
        </p:nvPicPr>
        <p:blipFill>
          <a:blip r:embed="rId1"/>
          <a:stretch/>
        </p:blipFill>
        <p:spPr>
          <a:xfrm>
            <a:off x="5796000" y="333360"/>
            <a:ext cx="2016000" cy="31669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0"/>
          <p:cNvSpPr/>
          <p:nvPr/>
        </p:nvSpPr>
        <p:spPr>
          <a:xfrm>
            <a:off x="2195640" y="4365720"/>
            <a:ext cx="73800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ids have a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sour taste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are </a:t>
            </a:r>
            <a:r>
              <a:rPr b="1" lang="en-GB" sz="3200" spc="-1" strike="noStrike">
                <a:solidFill>
                  <a:srgbClr val="ff6600"/>
                </a:solidFill>
                <a:latin typeface="Arial"/>
              </a:rPr>
              <a:t>corrosive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324000" y="4005360"/>
            <a:ext cx="6480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2" descr="sci_dia_36"/>
          <p:cNvPicPr/>
          <p:nvPr/>
        </p:nvPicPr>
        <p:blipFill>
          <a:blip r:embed="rId2"/>
          <a:stretch/>
        </p:blipFill>
        <p:spPr>
          <a:xfrm>
            <a:off x="250920" y="3716280"/>
            <a:ext cx="238608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808080"/>
                </a:solidFill>
                <a:latin typeface="Arial"/>
              </a:rPr>
              <a:t>Acids react with metals</a:t>
            </a:r>
            <a:br>
              <a:rPr sz="4000"/>
            </a:br>
            <a:r>
              <a:rPr b="1" lang="en-GB" sz="4000" spc="-1" strike="noStrike">
                <a:solidFill>
                  <a:srgbClr val="808080"/>
                </a:solidFill>
                <a:latin typeface="Arial"/>
              </a:rPr>
              <a:t>   and carbonates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229600" cy="15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tal + Acid             Salt + Hyd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magnesium +          </a:t>
            </a: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          magnesium chloride + hydrochloric acid                               hydro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1"/>
          <p:cNvPicPr/>
          <p:nvPr/>
        </p:nvPicPr>
        <p:blipFill>
          <a:blip r:embed="rId1"/>
          <a:stretch/>
        </p:blipFill>
        <p:spPr>
          <a:xfrm>
            <a:off x="6588000" y="1197000"/>
            <a:ext cx="2810160" cy="2106720"/>
          </a:xfrm>
          <a:prstGeom prst="rect">
            <a:avLst/>
          </a:prstGeom>
          <a:ln w="0">
            <a:noFill/>
          </a:ln>
        </p:spPr>
      </p:pic>
      <p:sp>
        <p:nvSpPr>
          <p:cNvPr id="62" name="Line 7"/>
          <p:cNvSpPr/>
          <p:nvPr/>
        </p:nvSpPr>
        <p:spPr>
          <a:xfrm>
            <a:off x="2627280" y="1989000"/>
            <a:ext cx="11527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0"/>
          <p:cNvSpPr/>
          <p:nvPr/>
        </p:nvSpPr>
        <p:spPr>
          <a:xfrm>
            <a:off x="3348000" y="5013360"/>
            <a:ext cx="71928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0" y="3716280"/>
            <a:ext cx="8964720" cy="23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id + Carbonate            Salt + Water + C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ox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sulphuric acid +                         copper sulphate + water 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copper carbonate                                       carbon di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3"/>
          <p:cNvSpPr/>
          <p:nvPr/>
        </p:nvSpPr>
        <p:spPr>
          <a:xfrm>
            <a:off x="3276720" y="4076640"/>
            <a:ext cx="115236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4"/>
          <p:cNvSpPr/>
          <p:nvPr/>
        </p:nvSpPr>
        <p:spPr>
          <a:xfrm>
            <a:off x="2627280" y="2637000"/>
            <a:ext cx="107964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6" descr="MPj03867810000[1]"/>
          <p:cNvPicPr/>
          <p:nvPr/>
        </p:nvPicPr>
        <p:blipFill>
          <a:blip r:embed="rId1"/>
          <a:stretch/>
        </p:blipFill>
        <p:spPr>
          <a:xfrm>
            <a:off x="6883560" y="0"/>
            <a:ext cx="2260440" cy="31687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780000" y="188640"/>
            <a:ext cx="556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ff0000"/>
                </a:solidFill>
                <a:uFillTx/>
                <a:latin typeface="Arial"/>
              </a:rPr>
              <a:t>Acids</a:t>
            </a: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3068280"/>
            <a:ext cx="8229600" cy="3313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Lemon juic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ontains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itric acid,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vinegar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ains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 ethanoic ac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ome strong acid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e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hydrochloric acid, sulphuric acid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nitric aci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ome weak acids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re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ethanoic acid, citric acid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carbonic acid.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MCj04079520000[1]"/>
          <p:cNvPicPr/>
          <p:nvPr/>
        </p:nvPicPr>
        <p:blipFill>
          <a:blip r:embed="rId2"/>
          <a:stretch/>
        </p:blipFill>
        <p:spPr>
          <a:xfrm>
            <a:off x="0" y="620640"/>
            <a:ext cx="2521080" cy="17906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8"/>
          <p:cNvSpPr/>
          <p:nvPr/>
        </p:nvSpPr>
        <p:spPr>
          <a:xfrm>
            <a:off x="2556000" y="981000"/>
            <a:ext cx="403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re are many acids present in our everyday li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9900"/>
                </a:solidFill>
                <a:latin typeface="Arial"/>
              </a:rPr>
              <a:t>Neutralisa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ids and alkalis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act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th each other. The alkali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ancels ou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he acid in the reaction. This is called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eutralis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nuta"/>
          <p:cNvPicPr/>
          <p:nvPr/>
        </p:nvPicPr>
        <p:blipFill>
          <a:blip r:embed="rId1"/>
          <a:stretch/>
        </p:blipFill>
        <p:spPr>
          <a:xfrm>
            <a:off x="1187280" y="3284640"/>
            <a:ext cx="6471000" cy="195732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6"/>
          <p:cNvSpPr/>
          <p:nvPr/>
        </p:nvSpPr>
        <p:spPr>
          <a:xfrm>
            <a:off x="3059280" y="5734080"/>
            <a:ext cx="54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 salt is m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0066"/>
                </a:solidFill>
                <a:uFillTx/>
                <a:latin typeface="Arial"/>
              </a:rPr>
              <a:t>Sa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salt made depends on the acid and alkali us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salt contains the metal atom from the alkali, and part of the acid molecu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395280" y="4365720"/>
            <a:ext cx="8497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alts of sulphuric acid are known as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lphat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alts of hydrochloric acid are known as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hlorid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alts of nitric acid are known as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itrates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Arial"/>
              </a:rPr>
              <a:t>Alkali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55640" y="2781360"/>
            <a:ext cx="598644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n the </a:t>
            </a:r>
            <a:r>
              <a:rPr b="1" lang="en-GB" sz="3200" spc="-1" strike="noStrike">
                <a:solidFill>
                  <a:srgbClr val="660066"/>
                </a:solidFill>
                <a:latin typeface="Arial"/>
              </a:rPr>
              <a:t>oxides of some metal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dissolve in </a:t>
            </a:r>
            <a:r>
              <a:rPr b="1" lang="en-GB" sz="3200" spc="-1" strike="noStrike">
                <a:solidFill>
                  <a:srgbClr val="660066"/>
                </a:solidFill>
                <a:latin typeface="Arial"/>
              </a:rPr>
              <a:t>wat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hey make an </a:t>
            </a:r>
            <a:r>
              <a:rPr b="1" lang="en-GB" sz="3200" spc="-1" strike="noStrike">
                <a:solidFill>
                  <a:srgbClr val="660066"/>
                </a:solidFill>
                <a:latin typeface="Arial"/>
              </a:rPr>
              <a:t>alkali solution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3200" spc="-1" strike="noStrike">
                <a:solidFill>
                  <a:srgbClr val="660066"/>
                </a:solidFill>
                <a:latin typeface="Arial"/>
              </a:rPr>
              <a:t>Alkali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ct with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acid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3200" spc="-1" strike="noStrike">
                <a:solidFill>
                  <a:srgbClr val="669900"/>
                </a:solidFill>
                <a:latin typeface="Arial"/>
              </a:rPr>
              <a:t>neutralise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alki"/>
          <p:cNvPicPr/>
          <p:nvPr/>
        </p:nvPicPr>
        <p:blipFill>
          <a:blip r:embed="rId1"/>
          <a:stretch/>
        </p:blipFill>
        <p:spPr>
          <a:xfrm>
            <a:off x="250920" y="2852640"/>
            <a:ext cx="2279520" cy="3889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sci_dia_36"/>
          <p:cNvPicPr/>
          <p:nvPr/>
        </p:nvPicPr>
        <p:blipFill>
          <a:blip r:embed="rId2"/>
          <a:stretch/>
        </p:blipFill>
        <p:spPr>
          <a:xfrm>
            <a:off x="250920" y="333360"/>
            <a:ext cx="2376360" cy="2303640"/>
          </a:xfrm>
          <a:prstGeom prst="rect">
            <a:avLst/>
          </a:prstGeom>
          <a:ln w="0">
            <a:noFill/>
          </a:ln>
        </p:spPr>
      </p:pic>
      <p:sp>
        <p:nvSpPr>
          <p:cNvPr id="83" name="Text Box 7"/>
          <p:cNvSpPr/>
          <p:nvPr/>
        </p:nvSpPr>
        <p:spPr>
          <a:xfrm>
            <a:off x="2843280" y="1052640"/>
            <a:ext cx="65530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y everyday substances are alkal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feel </a:t>
            </a: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soap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are </a:t>
            </a:r>
            <a:r>
              <a:rPr b="1" lang="en-GB" sz="3200" spc="-1" strike="noStrike">
                <a:solidFill>
                  <a:srgbClr val="ff6600"/>
                </a:solidFill>
                <a:latin typeface="Arial"/>
              </a:rPr>
              <a:t>corrosive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MCj02289170000[1]"/>
          <p:cNvPicPr/>
          <p:nvPr/>
        </p:nvPicPr>
        <p:blipFill>
          <a:blip r:embed="rId1"/>
          <a:stretch/>
        </p:blipFill>
        <p:spPr>
          <a:xfrm>
            <a:off x="324000" y="1268280"/>
            <a:ext cx="2700360" cy="25923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660066"/>
                </a:solidFill>
                <a:uFillTx/>
                <a:latin typeface="Arial"/>
              </a:rPr>
              <a:t>Alkalis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714400" y="907920"/>
            <a:ext cx="642924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lkali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re present in many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leaning substanc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n use in our hom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Kitchen cleaners are alkali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because they contain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ammoni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GB" sz="2800" spc="-1" strike="noStrike">
                <a:solidFill>
                  <a:srgbClr val="660066"/>
                </a:solidFill>
                <a:latin typeface="Arial"/>
              </a:rPr>
              <a:t>sodium hydroxid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which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attack gre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250920" y="4581360"/>
            <a:ext cx="88930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0066"/>
                </a:solidFill>
                <a:latin typeface="Arial"/>
              </a:rPr>
              <a:t>Calcium hydroxide </a:t>
            </a:r>
            <a:r>
              <a:rPr b="0" lang="en-GB" sz="2800" spc="-1" strike="noStrike">
                <a:solidFill>
                  <a:srgbClr val="660066"/>
                </a:solidFill>
                <a:latin typeface="Arial"/>
              </a:rPr>
              <a:t>and</a:t>
            </a:r>
            <a:r>
              <a:rPr b="1" lang="en-GB" sz="2800" spc="-1" strike="noStrike">
                <a:solidFill>
                  <a:srgbClr val="660066"/>
                </a:solidFill>
                <a:latin typeface="Arial"/>
              </a:rPr>
              <a:t> sodium hydroxide </a:t>
            </a:r>
            <a:r>
              <a:rPr b="0" lang="en-GB" sz="2800" spc="-1" strike="noStrike">
                <a:solidFill>
                  <a:srgbClr val="660066"/>
                </a:solidFill>
                <a:latin typeface="Arial"/>
              </a:rPr>
              <a:t>ar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660066"/>
                </a:solidFill>
                <a:latin typeface="Arial"/>
              </a:rPr>
              <a:t>strong alkalis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The most recognisable and common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 weak alkali 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is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 ammon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0T14:57:11Z</dcterms:created>
  <dc:creator>HP Authorized Customer</dc:creator>
  <dc:description/>
  <dc:language>en-US</dc:language>
  <cp:lastModifiedBy>RomaK</cp:lastModifiedBy>
  <dcterms:modified xsi:type="dcterms:W3CDTF">2015-09-01T16:13:59Z</dcterms:modified>
  <cp:revision>27</cp:revision>
  <dc:subject/>
  <dc:title>Slide 1</dc:title>
</cp:coreProperties>
</file>